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4C7-14B5-47C3-ABEE-4F1D98CA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0CB-9B5D-4310-9B37-3640FF8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97E-6338-41B6-B192-DDCFB06F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E5C-5704-49A7-A780-F090A36A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0917-26F6-4665-943F-17CB1851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2A35-43D7-49F7-A6D0-02EE089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2395-2B45-4411-89CF-1DADF508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4446-EDBF-4E29-B06C-D8062A5F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762B-DFA3-4A69-9FEB-05AA0CBE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2A58-D978-4842-A42E-666E99E9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1E93-C5C3-4996-9B27-78F547C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448-629F-4AFA-967E-58A03BF5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B8F4-AA32-437C-8A16-C57F9AEF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6383-5FD6-434A-81AA-47B1F32E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05B1-0F95-4E9A-AE25-35473DA3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BD9A-7639-49B9-9D61-AAD5EAAF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1008-759E-4D82-B09A-DC8D83BE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BDB-E1F6-4D4A-AFCF-2237C384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9D4-A86B-4AD5-8D9E-BA1D3540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FB1-20B3-42F0-9EBD-334CE8BF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A55-E011-40D4-9515-CB533543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DF4-3D14-4262-95A2-C28C722E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791-1166-4336-BAFA-D518C740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AF8-B8F0-4473-A26B-BE706A65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3BB2-BA5E-4911-B36B-3C83682BC58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579D-F739-48F6-9AB4-D2A31887742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549360" y="792000"/>
            <a:ext cx="8381880" cy="3011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419112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         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Mr ph Nataša Zdravkovi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  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Farm.tehničar Tijana Miloševi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7848360" cy="24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9617f"/>
                </a:solidFill>
                <a:latin typeface="Lucida Sans"/>
              </a:rPr>
              <a:t>HVALA NA PAŽNJI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Bolnička apote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- organizacioni deo stacionarne zdravstvene ustanove na sekundarnom i tercijarnom nivou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zdravstvene zašt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Organizacione jedinic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centralna apotek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apoteke na odeljenjim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entral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 apot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a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centralizovane nabavke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</a:t>
            </a: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ekova i medicinskih sredstav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skladištenje i distribucija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</a:t>
            </a: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ekova ka apotekama na odeljenjim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poteke na odeljenji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</a:t>
            </a: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istribucija sa odeljenja ka pojedinačnom pacijent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DAP-dobra apotekarska praks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- predstavlja osnov za obezbeđenje kvaliteta usluga, aktivnosti farmaceutske prak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Kadar bolničke apotek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magistar farmacije  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farmaceutski tehniča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Magistar farmacije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– obavlja poslove farmaceutske zdravstvene delatnosti, vodi propisanu medicinsku dokumentacij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abavlja i pravilno skladišti lekove i medicinska sredstv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redlaže unapređ</a:t>
            </a: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je farmakoterapijskih mera i postupaka u racionalnoj upotrebi lekova i određenih vrsta med</a:t>
            </a: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icinskih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redstav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adi na racionalizaciji troškova za sprovođenje terapijskih protokola lečenj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rati neželjene reakcije na lekove i me</a:t>
            </a: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dicinska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redstva i prijavljuje ih ALIMS-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oprinosi izbegavanju interakcija i dupliranju primene lekov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provodi aktivnosti stručnog usavršavanja u oblasti farmaceutske delatnost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rati kvalitet pruženih farmaceutskih usluga, zadovoljstvo pacijenata i zadovoljstvo zaposlenih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zrađuje stručno-metodološka uputstva, pruža pomoć prilikom izrade plana za centralizovane javne nabavk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Upravlja farmaceutskim otpado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Vodi evidenciju o potrošnji narkotika u knjizi narkotik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Učestvuje u programima prevencije i naučno istraživačkog rada SBZBZ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Piše standardne procedure rada u apotec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Koristi informacioni sistem SBZBZ za praćenje leka na komad, ampulu, tabletu od ulaza do izlaza na pojedinačnog  pacijent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Farmaceutski tehničar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rijem lekova, medicinskih sredstava i drugih proizvod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roverava ispravnost, količinu i rok upotrebe pri prijemu, proverava obezbeđenost  sertifikat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provodi adekvatan način čuvanja, skladištenja, uređenja prostora i rasporeda lekov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provodi defektiranje lekova, medicinskih sredstava i drugih proizvod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ravilno odlaže farmaceutski otpa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Book Antiqua"/>
              </a:rPr>
              <a:t>učestvovanje farmaceuta na raznim stručnim skupovima, konferencijama i kongresi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u cilju edukacije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kao </a:t>
            </a: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predavač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slušalac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i druge aktivnosti kao predstavnik ustanov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Book Antiqua"/>
              </a:rPr>
              <a:t>izradom postera koji pokazuje određene podatke, aktuelne informacije o trenutnom stanju u određenom segmentu rada farmaceut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Natasa</dc:creator>
  <dc:description/>
  <dc:language>en-US</dc:language>
  <cp:lastModifiedBy>x</cp:lastModifiedBy>
  <dcterms:modified xsi:type="dcterms:W3CDTF">2018-04-10T08:44:50Z</dcterms:modified>
  <cp:revision>20</cp:revision>
  <dc:subject/>
  <dc:title>FARMACEUTSKA DELATNOST U BOLNIČKIM I VANBOLNIČKIM AKTIVNOSTIMA</dc:title>
</cp:coreProperties>
</file>