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D75-F31A-4DE1-BA5F-CD601320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806-0EDA-4591-96A7-BA7B6DD4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D3B-C533-4A05-ACA4-5D2A929A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34D-A6CD-408E-9C2D-CA48F8C6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02769-88BB-4A0D-A732-FB686E49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100B8-AFF0-4896-8173-2BF6DB13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3AD69-6EBC-472D-A7A1-BF078B6B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F74FC-F673-4A9E-90A5-05AC2C28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9CB4D-788E-4488-8E55-666D9077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0B78C-4F9F-493A-9ED1-CA4BDED0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B236F-F9AA-4467-BC7E-DF66DAEF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5EB-EFAA-4E83-9CF6-DEB2D4CC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976A0-E241-4511-A5F8-FD7C24D9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72085-CB49-4D9A-9709-2BA9078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35988-C897-4233-BCAB-41B92908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8A5C2-EB4E-430F-9C3D-08156BEE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1F124-7F13-4F04-B273-F9506C84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C98-7E2D-4D99-9CA5-463162C5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F61-59DC-429B-B99E-F65FF82B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A89-DBC0-45E4-8EE9-413C782D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BE2-8477-4B16-86EE-C2A4B240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022-82DE-4B35-B764-33FD12AC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6CD-910D-4F4D-BAFD-D80C1AB1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B65-1A32-4232-859E-CA5E43AB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AEF8-9D0C-464B-A5A4-A59FD1C68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6DF2-CA38-4011-89D1-CB5FCCF395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hr-HR" sz="4400" spc="-1" strike="noStrike">
                <a:solidFill>
                  <a:srgbClr val="ff3300"/>
                </a:solidFill>
                <a:latin typeface="Tahoma"/>
              </a:rPr>
              <a:t>LABORATORIJSKE ANALIZE U DIJAGNOSTIČKOM  </a:t>
            </a:r>
            <a:br>
              <a:rPr sz="4400"/>
            </a:br>
            <a:r>
              <a:rPr b="1" lang="hr-HR" sz="4400" spc="-1" strike="noStrike">
                <a:solidFill>
                  <a:srgbClr val="ff3300"/>
                </a:solidFill>
                <a:latin typeface="Tahoma"/>
              </a:rPr>
              <a:t>POSTUPKU U BOLESTIMA ZAVISNOSTI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105520" y="5257800"/>
            <a:ext cx="3809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Specijalna bolnica za bolesti zavisnos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Teodora Drajzera 44 Beogr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m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jubiša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 Radivojevi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400" spc="-1" strike="noStrike">
                <a:solidFill>
                  <a:srgbClr val="ffff00"/>
                </a:solidFill>
                <a:latin typeface="Tahoma"/>
              </a:rPr>
              <a:t>Dijagnostika psihoaktivnih supstanci-PA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Zahtev- uzimanje biološkog uzorka (urin, pljuvačka, krv, kosa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Uzimanje uzorka mora biti pod nadzorom, kako bi se izbegle </a:t>
            </a:r>
            <a:r>
              <a:rPr b="0" lang="hr-HR" sz="2800" spc="-1" strike="noStrike" u="sng">
                <a:solidFill>
                  <a:srgbClr val="ffff00"/>
                </a:solidFill>
                <a:uFillTx/>
                <a:latin typeface="Tahoma"/>
              </a:rPr>
              <a:t>zamene</a:t>
            </a: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0" lang="hr-HR" sz="2800" spc="-1" strike="noStrike" u="sng">
                <a:solidFill>
                  <a:srgbClr val="ffff00"/>
                </a:solidFill>
                <a:uFillTx/>
                <a:latin typeface="Tahoma"/>
              </a:rPr>
              <a:t>razređenja</a:t>
            </a: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 ili druge manipulaci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Prilikom svakog testiranja mogu se pojaviti lažno pozitivni i lažno negativni rezulta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Svi negativni rezultati se prihvataju kao takv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Pozitivni zahtevaju potvrdu drugim specifičnijim metodama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33520" y="304920"/>
          <a:ext cx="8229600" cy="6161040"/>
        </p:xfrm>
        <a:graphic>
          <a:graphicData uri="http://schemas.openxmlformats.org/drawingml/2006/table">
            <a:tbl>
              <a:tblPr/>
              <a:tblGrid>
                <a:gridCol w="1371600"/>
                <a:gridCol w="3581280"/>
                <a:gridCol w="3276720"/>
              </a:tblGrid>
              <a:tr h="574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ffff00"/>
                          </a:solidFill>
                          <a:uFillTx/>
                          <a:latin typeface="Tahoma"/>
                        </a:rPr>
                        <a:t>UZORAK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ffff00"/>
                          </a:solidFill>
                          <a:uFillTx/>
                          <a:latin typeface="Tahoma"/>
                        </a:rPr>
                        <a:t>PREDNOSTI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 u="sng">
                          <a:solidFill>
                            <a:srgbClr val="ffff00"/>
                          </a:solidFill>
                          <a:uFillTx/>
                          <a:latin typeface="Tahoma"/>
                        </a:rPr>
                        <a:t>NEDOSTACI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rin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einvazivna meto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oguce prikupiti veliku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licinu uzor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zorak pozitivan 2-3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oguće falsifikovanje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zorka kada uzorkovanjenije direktno nadgleda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rv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ože se koristiti za dokazivanje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renutnog uticaja dro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e može se falsifikovati uzorak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ratak polu život dro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zahteva flebotomij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iska koncentracija droge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ljuvačka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eško je falsifikovati uzorak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iska koncentracija dro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eško je dobiti veću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ličinu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zorka z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otvrdno testiranje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3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Znoj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ože se kumulativno pratiti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zimanje droge kroz 3-7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mplikovan postupak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dređivan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teško je dobiti veću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ličinu uzorka z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otvrdno testiranje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oguća kontaminacij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uzorka iz okoline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sa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roga se može otkriti dugo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nakon uzimanj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mplikovan postupak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dređivan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kupo testiranje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Najčešći i za uzimanje najpogodniji biološki materijal - ur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On se može uzeti u bilo koje doba dana (to znači da </a:t>
            </a:r>
            <a:r>
              <a:rPr b="0" lang="hr-HR" sz="2800" spc="-1" strike="noStrike" u="sng">
                <a:solidFill>
                  <a:srgbClr val="ffff00"/>
                </a:solidFill>
                <a:uFillTx/>
                <a:latin typeface="Arial"/>
              </a:rPr>
              <a:t>nije potreban svež jutarnji</a:t>
            </a: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) , nije bitna sterilnost urina, ali je veoma važno da se materijal sačuva od razgradnje. Zato ako nismo u prilici do odmah izvršimo analizu, obavezno je takav urin čuvati na t 2-8 C (u frižideru) do 48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Koncentracija droge ili metabolita koji se dokazuje u urinu ne korelira sa nivoom iste u krvi niti sa stepenom oštećenja organizma.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Sve PAS koje dokazujemo imaju svoje granične vrednosti, </a:t>
            </a:r>
            <a:r>
              <a:rPr b="0" lang="hr-HR" sz="2400" spc="-1" strike="noStrike" u="sng">
                <a:solidFill>
                  <a:srgbClr val="ffff00"/>
                </a:solidFill>
                <a:uFillTx/>
                <a:latin typeface="Tahoma"/>
              </a:rPr>
              <a:t>cut off-vrednosti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, koje nam određuju  pozitivan ili negativan nalaz. Svi nalazi koji se označavaju kao pozitivni ili dokazani, znače da je određen metabolit u ispitivanom uzorku iznad  ili jednak sa cut off vrednostima (detected). Svi nalazi koji su negativni, znače da je metabolit u ispitovanom uzorku ispod preporučene cut off vrednosti (non detected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Ove vrednosti utvrđuje Nacionalni institut za zloupotrebu droga (NIDA).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291960"/>
          <a:ext cx="8229600" cy="572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16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 u="sng">
                          <a:solidFill>
                            <a:srgbClr val="ffff00"/>
                          </a:solidFill>
                          <a:uFillTx/>
                          <a:latin typeface="Tahoma"/>
                        </a:rPr>
                        <a:t>Preporučene cut off vrednost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MFETAMIN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00 ng/ml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ETAMFETAMIN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00</a:t>
                      </a: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ng/ml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OCAIN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00 ng/m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PIJAT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00 ng/m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ANABINOID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50 ng/m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CSTASY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00 ng/m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BENZODIAZEPINI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00 ng/m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77760"/>
          <a:ext cx="8229600" cy="6550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64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REME OTKRIVANJA DROGE U URINU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RSTA DROGE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UŽINA UZIMANJA DROGE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Povremen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Čes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Hronično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mfetamin (speed, amf. Sulfat, Fentermin)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-2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-6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etamfetamin (ice, crystal)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-2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-6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cstasy (MDMA, MDA, MDEA)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-3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-7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ocain (cocain hidrohlorid, crack)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-2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-4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anabis (marihuana, hašiš)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-5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7-14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-2 mesec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pijati (heroin, morfin, kodein)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-4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-6 da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Benzodiazepini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-5 dana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7-14 da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 mesec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09:48:36Z</dcterms:created>
  <dc:creator>Tehnicki sekretar</dc:creator>
  <dc:description/>
  <dc:language>en-US</dc:language>
  <cp:lastModifiedBy>Ljuba</cp:lastModifiedBy>
  <dcterms:modified xsi:type="dcterms:W3CDTF">2018-04-04T07:54:14Z</dcterms:modified>
  <cp:revision>19</cp:revision>
  <dc:subject/>
  <dc:title>MESTO I ZNAČAJ LABORATORIJSKE DIJAGNOSTIKE   U OTKRIVANJU ZAVISNIKA OD PAS</dc:title>
</cp:coreProperties>
</file>